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1E8-703C-42DF-BDE3-A635E499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FCB-02C7-4A0A-8A74-51511571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3E7-BAE9-4E89-9B0E-36AC89B4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A73-4F0D-47AB-8F63-8B347F79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A271-3F2E-4D55-AEE7-A13C4D1F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C6E2-6CEC-4B9D-8039-40A427FF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1C89-4D94-4C10-BD76-340A1787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8323-EC4A-4C18-A577-E8517F59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6BF6-3444-4533-B98A-93ABBE50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4144-8603-4853-8CEA-3DDF458B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1516-69AD-4292-A7FB-699B9E74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79E-60D3-448F-AECA-918ACBC1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DD4E-3205-4C57-B9E3-AD23BCA5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EF4F-0782-4AB3-A6F1-9F15C97F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1518-7D81-439B-97FB-72E79D89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DF11-DE42-4CDF-9933-322D41C3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125F-7208-4B65-8F42-841C861B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C8F-209E-46B0-A599-E3CAB654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3C1-21F8-43A8-AC60-93847DFB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021-68A6-4365-987A-9153BA2E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BA4-3EEB-4B4D-A040-FBDD1799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E19-A8EE-418F-A283-AB8120B0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297-3C05-40FC-86E8-66389C6C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18E-FF61-42AD-8782-2FF3856E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2640-C479-4210-BCE5-02B28236260A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BEBC-70CE-4EA1-A055-FF605B4DCF66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Learning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rcsoft PhotoStudio 5.5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3337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Lass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086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asso will let you select object in any shap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Lasso To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If you R Click and choose Magnetic Lasso, it will make the lasso “stick” bett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line what you want to keep, clicking will make the lasso stick, to finish come back to the start point and double cl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5716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Moving an Object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move an object with the picture to a different spo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Move T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part of the picture you want moved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 If you want to move only part of the picture, use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Selection To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get your dancing ants.  Now you can move this small part of the pic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 If you have layers, you must click 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“Layer” to make it active before mov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57168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ropping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opping will allow you to remove items out of your pictures that isn’t need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 the part of the picture you want to keep with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Selection Tool, Lasso Tool, or Magic Wand T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 the part of the picture you want to KEEP!!! 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you will receive “dancing ant” to show what is selecte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349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Crop To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removes everything outside the “dancing ants”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57168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Paintbrush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you to place color on a certain area of your pic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color wa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Paintbrush T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choose from paint brush, pencil, and spray can depending on you nee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choose round or shape for sty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and drag to dra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hape, click where you want shap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If shape is too small, you picture size can be made smaller to have the shapes appear bigg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8120" y="380880"/>
            <a:ext cx="5713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tamp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you to place a pre-made stamp on your pi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Stamp To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sure the color in the 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Color Palet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corr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wish to change opacity % (how dark the stamp color i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desired sta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and drag to draw the stamp on the pic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57132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hape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you to edge your pi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Shape To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desired sha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and drag over the area of the picture you want to keep – this will give you a white edg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If you didn’t edge the entire picture, you may need to crop out the extra white sp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5716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hape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to Colored Background</a:t>
            </a:r>
            <a:br>
              <a:rPr sz="3400"/>
            </a:b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you to edge your picture but have a color in the edging versus wh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s F2 to determine image size (write down height and wid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, New and type in height and 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the paint bucket, fill bucket, or gradient fill (see next slide) to recolor the empty pi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to original image, R Click and 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to empty picture, R Click and Pas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as normal and the coloring should show through, Crop if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Gradient Fill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you to fill an area with a gradient fi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the colors for your active swatch and alternative swa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Gradient Fill T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don’t want Linear, choose the style you wish from the collapsibl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and drag (center of picture) to see gradient f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 Pattern of the fill will change depending on how big of little you click and drag.  Smaller – more repeat; Bigger – less repea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581280" y="380880"/>
            <a:ext cx="57168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loning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you do duplicate a part of a picture.  You may also take part of one picture and clone it into a different pic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Clone T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wish to change clone 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 down the Shift key and click and drag over what you want cloned (source a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up on the shif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click and drag over the area you want the cloned area to show up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 IF you are cloning to a different picture, you may need to adjust image size to the clone source isn’t too big or too sm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5716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ow to Scan an Image 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ok scanner to computer via the USB por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n PhotoStudi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Acquire shortc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Preview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You may hit cancel after your pictures are in view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icture should have a box around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 If you have multiple pictures, resize the box to be over only one picture, then draw a box around the next picture, continue until all pictures have a box around th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Sca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If you have multiple photos, it shows the how many croppe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ce Scan is done, you must close out of this wind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ow to Save Pictures to Student Driv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on picture you are working on to make it ac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e, Save A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r the Save shortcut – it looks like a dis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te to your student drive and open any folders if need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in a filenam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it will save as a JPEG file)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mage Size and Viewing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view image size press F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r View, Image siz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our purpose, a width of 600 in normally big enough.  If you change the width, the height will automatically chang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ize of the picture you see on the screen is not the actual size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otoStudio automatically adjust view size to fit in the window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see actual size go to View, Actual View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get rid of scroll bars, go to View, Fit in Windo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ool Palette 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87336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62320" y="16002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19810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s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5053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l Buck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41911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am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45720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adient Fi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51814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60020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274320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intbrus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304812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on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411480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80060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Eye Dropper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518148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s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434340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  When using a tool and you don’t like what happen, just press undo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8672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lor Palet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5638680"/>
            <a:ext cx="1143000" cy="10670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391520" y="5791320"/>
            <a:ext cx="129528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olor Palette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s you choose an active swatch and alternative swatch of c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active swatch to selec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color grid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Color Palet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oose color for active swat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alternative swatch to selec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color grid on again, choose color for alternative swat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 Which ever swatch in on top of the other will become the active swat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777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Eye Dropper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you to find a color and places it as your active col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Eye Dropper T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color in the picture you w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now the active color in your color palet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571680" cy="4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Fill Bucket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you to fill an area with a color or a patter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Fill Buck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 You may change your bucket to a pattern fill (R clic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he color i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Color Palet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corr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Fi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57132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election Tool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 all or a part of your im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Selection To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right click to change shap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and drag over the part of the picture you want selected 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you will receive “dancing ant” to show what is selecte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86200" y="380880"/>
            <a:ext cx="57168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4:49:01Z</dcterms:created>
  <dc:creator>wiesel</dc:creator>
  <dc:description/>
  <dc:language>en-US</dc:language>
  <cp:lastModifiedBy>wiesel</cp:lastModifiedBy>
  <dcterms:modified xsi:type="dcterms:W3CDTF">2010-11-29T21:59:36Z</dcterms:modified>
  <cp:revision>24</cp:revision>
  <dc:subject/>
  <dc:title>Learning Arcsoft PhotoStudio 5.5</dc:title>
</cp:coreProperties>
</file>